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333-A9DF-4E7E-B59D-2135741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121-E29C-464D-9469-DFF49DEF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E1C-7A9F-432E-B978-F663587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82A-E9FD-4252-BB9D-CB9EF4A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273-FA32-4851-A0F3-9D903119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136-9C6B-4594-81AD-4D22488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5CE-32A8-4241-88B8-B441353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387-9D98-49FF-B363-43FF933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23E-4B73-4D72-8A0B-BBFF618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0F6-ADEE-4368-877D-BEDAFEA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BDD-20CE-4E69-A1C4-27177D24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DAF-7B31-40F6-B7E1-989B25DF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060-FF0B-4712-AF5C-1712EF5A5E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D5F-4918-45C8-9B3C-1D85A84ED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cenario xxx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7143840" y="11430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57120" y="1785960"/>
            <a:ext cx="492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day/week in the life of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27:24Z</dcterms:modified>
  <cp:revision>148</cp:revision>
  <dc:subject/>
  <dc:title>Slide 1</dc:title>
</cp:coreProperties>
</file>